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1A53-3A57-4F36-94B0-22D23FC3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71FD-AC53-4D73-8633-F9E8DB88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290A-331F-4F34-9BD9-1347E4BD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0619-5F57-4525-9A02-D0C093F7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3CE4-96EB-4044-BA9C-ED33815E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038B-51EA-4815-804F-7E07E40F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93CF-9666-43ED-ACFD-A092AD3D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7205-0367-44AD-852E-F2E05963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6BD9-98FE-40E8-9355-F4BA3918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2155-3791-4D33-947F-5756F45B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ADE2-D5AE-4040-B644-8B09CE3B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9009-958C-4D64-AB4A-E5BCEFE5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D76F-9B3B-43A6-88F6-4B23F98E9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295280"/>
            <a:ext cx="533520" cy="6858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685800"/>
              <a:gd name="textAreaBottom" fmla="*/ 659880 h 685800"/>
            </a:gdLst>
            <a:ahLst/>
            <a:rect l="textAreaLeft" t="textAreaTop" r="textAreaRight" b="textAreaBottom"/>
            <a:pathLst>
              <a:path w="21600" h="27761">
                <a:moveTo>
                  <a:pt x="3600" y="0"/>
                </a:moveTo>
                <a:arcTo wR="3600" hR="3600" stAng="16200000" swAng="-5400000"/>
                <a:lnTo>
                  <a:pt x="0" y="24161"/>
                </a:lnTo>
                <a:arcTo wR="3600" hR="3600" stAng="10800000" swAng="-5400000"/>
                <a:lnTo>
                  <a:pt x="18000" y="277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371600"/>
            <a:ext cx="41436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429000"/>
            <a:ext cx="1143000" cy="457200"/>
          </a:xfrm>
          <a:prstGeom prst="parallelogram">
            <a:avLst>
              <a:gd name="adj" fmla="val 6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2895480"/>
            <a:ext cx="8384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533520"/>
            <a:ext cx="838440" cy="12952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533520"/>
            <a:ext cx="838080" cy="12952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924680" y="30481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924680" y="3429000"/>
            <a:ext cx="381240" cy="76212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762120"/>
              <a:gd name="textAreaBottom" fmla="*/ 743760 h 762120"/>
            </a:gdLst>
            <a:ahLst/>
            <a:rect l="textAreaLeft" t="textAreaTop" r="textAreaRight" b="textAreaBottom"/>
            <a:pathLst>
              <a:path w="21600" h="43159">
                <a:moveTo>
                  <a:pt x="3600" y="0"/>
                </a:moveTo>
                <a:arcTo wR="3600" hR="3600" stAng="16200000" swAng="-5400000"/>
                <a:lnTo>
                  <a:pt x="0" y="39559"/>
                </a:lnTo>
                <a:arcTo wR="3600" hR="3600" stAng="10800000" swAng="-5400000"/>
                <a:lnTo>
                  <a:pt x="18000" y="431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1880" y="3505320"/>
            <a:ext cx="152640" cy="60948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609480"/>
              <a:gd name="textAreaBottom" fmla="*/ 602280 h 609480"/>
            </a:gdLst>
            <a:ahLst/>
            <a:rect l="textAreaLeft" t="textAreaTop" r="textAreaRight" b="textAreaBottom"/>
            <a:pathLst>
              <a:path w="21600" h="86095">
                <a:moveTo>
                  <a:pt x="3600" y="0"/>
                </a:moveTo>
                <a:arcTo wR="3600" hR="3600" stAng="16200000" swAng="-5400000"/>
                <a:lnTo>
                  <a:pt x="0" y="82495"/>
                </a:lnTo>
                <a:arcTo wR="3600" hR="3600" stAng="10800000" swAng="-5400000"/>
                <a:lnTo>
                  <a:pt x="18000" y="860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96080" y="3505320"/>
            <a:ext cx="152640" cy="60948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609480"/>
              <a:gd name="textAreaBottom" fmla="*/ 602280 h 609480"/>
            </a:gdLst>
            <a:ahLst/>
            <a:rect l="textAreaLeft" t="textAreaTop" r="textAreaRight" b="textAreaBottom"/>
            <a:pathLst>
              <a:path w="21600" h="86095">
                <a:moveTo>
                  <a:pt x="3600" y="0"/>
                </a:moveTo>
                <a:arcTo wR="3600" hR="3600" stAng="16200000" swAng="-5400000"/>
                <a:lnTo>
                  <a:pt x="0" y="82495"/>
                </a:lnTo>
                <a:arcTo wR="3600" hR="3600" stAng="10800000" swAng="-5400000"/>
                <a:lnTo>
                  <a:pt x="18000" y="860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24680" y="4267080"/>
            <a:ext cx="152640" cy="60984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609840"/>
              <a:gd name="textAreaBottom" fmla="*/ 602640 h 609840"/>
            </a:gdLst>
            <a:ahLst/>
            <a:rect l="textAreaLeft" t="textAreaTop" r="textAreaRight" b="textAreaBottom"/>
            <a:pathLst>
              <a:path w="21600" h="86146">
                <a:moveTo>
                  <a:pt x="3600" y="0"/>
                </a:moveTo>
                <a:arcTo wR="3600" hR="3600" stAng="16200000" swAng="-5400000"/>
                <a:lnTo>
                  <a:pt x="0" y="82546"/>
                </a:lnTo>
                <a:arcTo wR="3600" hR="3600" stAng="10800000" swAng="-5400000"/>
                <a:lnTo>
                  <a:pt x="18000" y="861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153280" y="4267080"/>
            <a:ext cx="152640" cy="60984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609840"/>
              <a:gd name="textAreaBottom" fmla="*/ 602640 h 609840"/>
            </a:gdLst>
            <a:ahLst/>
            <a:rect l="textAreaLeft" t="textAreaTop" r="textAreaRight" b="textAreaBottom"/>
            <a:pathLst>
              <a:path w="21600" h="86146">
                <a:moveTo>
                  <a:pt x="3600" y="0"/>
                </a:moveTo>
                <a:arcTo wR="3600" hR="3600" stAng="16200000" swAng="-5400000"/>
                <a:lnTo>
                  <a:pt x="0" y="82546"/>
                </a:lnTo>
                <a:arcTo wR="3600" hR="3600" stAng="10800000" swAng="-5400000"/>
                <a:lnTo>
                  <a:pt x="18000" y="861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5334120"/>
            <a:ext cx="1143000" cy="457200"/>
          </a:xfrm>
          <a:prstGeom prst="parallelogram">
            <a:avLst>
              <a:gd name="adj" fmla="val 6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4800600"/>
            <a:ext cx="8384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2819520"/>
            <a:ext cx="761760" cy="6094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048120"/>
            <a:ext cx="457200" cy="30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3505320"/>
            <a:ext cx="990720" cy="304560"/>
          </a:xfrm>
          <a:prstGeom prst="cube">
            <a:avLst>
              <a:gd name="adj" fmla="val 84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685800"/>
            <a:ext cx="762120" cy="6094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91440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1371600"/>
            <a:ext cx="990360" cy="304920"/>
          </a:xfrm>
          <a:prstGeom prst="cube">
            <a:avLst>
              <a:gd name="adj" fmla="val 84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2514600"/>
            <a:ext cx="762120" cy="6094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74320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3200400"/>
            <a:ext cx="990720" cy="304920"/>
          </a:xfrm>
          <a:prstGeom prst="cube">
            <a:avLst>
              <a:gd name="adj" fmla="val 84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01000" y="3581280"/>
            <a:ext cx="228600" cy="228600"/>
          </a:xfrm>
          <a:custGeom>
            <a:avLst/>
            <a:gdLst>
              <a:gd name="textAreaLeft" fmla="*/ 53640 w 228600"/>
              <a:gd name="textAreaRight" fmla="*/ 174960 w 228600"/>
              <a:gd name="textAreaTop" fmla="*/ 26640 h 228600"/>
              <a:gd name="textAreaBottom" fmla="*/ 143280 h 228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6629400" y="320004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9640" y="34290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rietary radio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5105160" y="1905120"/>
            <a:ext cx="609480" cy="1218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34200" y="2209680"/>
            <a:ext cx="2469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peed direct fiber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hronous data protoco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657240" y="1066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15920" y="655560"/>
            <a:ext cx="95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C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410080" y="380988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4920" y="4114800"/>
            <a:ext cx="151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Area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752480" y="28951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07640" y="2697120"/>
            <a:ext cx="48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20040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99680" y="1828800"/>
            <a:ext cx="10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n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l up P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609120" y="20570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6960" y="220968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9080" y="83808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3720" y="396252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boo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35280" y="498312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boo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4440" y="35053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58120" y="129528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17400" y="323064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66800" y="87156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er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22520" y="2743200"/>
            <a:ext cx="102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ce M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4876920"/>
            <a:ext cx="1295640" cy="1523880"/>
          </a:xfrm>
          <a:prstGeom prst="cube">
            <a:avLst>
              <a:gd name="adj" fmla="val 131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5791320"/>
            <a:ext cx="228600" cy="380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5791320"/>
            <a:ext cx="228600" cy="380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5334120"/>
            <a:ext cx="228600" cy="380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1080" y="5334120"/>
            <a:ext cx="228600" cy="380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29440" y="506268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666880" y="3580920"/>
            <a:ext cx="15264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5720" y="3992400"/>
            <a:ext cx="48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5334120"/>
            <a:ext cx="6477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533412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5334120"/>
            <a:ext cx="1981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5334120"/>
            <a:ext cx="1523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3581280"/>
            <a:ext cx="6477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97120" y="3611520"/>
            <a:ext cx="517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entralized  Addressing Sche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UUID based, independently assigned and manag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4114800"/>
            <a:ext cx="6477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7880" y="4114800"/>
            <a:ext cx="41734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tual Routing and Resolving Lay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 late as possible – on demand - binding of address to physical transport endpoint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tributed search for new binding and routing information on every single routing failu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4724280"/>
            <a:ext cx="6477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3480" y="4800600"/>
            <a:ext cx="44100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tual network transport abstra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mmon driver interface to all of the heterogeneous transport supported by the P2P networ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74320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274320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274320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274320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9520" y="2787480"/>
            <a:ext cx="424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Objects (System or Applic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ers, logical communication “socket like” endpoints known as pipes,  grouping of peers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 availability services, et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1905120"/>
            <a:ext cx="2057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1905120"/>
            <a:ext cx="1371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1905120"/>
            <a:ext cx="1219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1905120"/>
            <a:ext cx="15242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47080" y="2071800"/>
            <a:ext cx="542772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overy, Communications and Other Services (System or Applic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rvices available to other peers, running on one or more peers concurrent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30960" y="5486400"/>
            <a:ext cx="301824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terogeneous Conne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ifferent physical transport, software, and hardware platform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0666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10666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10666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106668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4640" y="1233360"/>
            <a:ext cx="48168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2P Appl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ocused on application logic, with most of the P2P network handling provided by lower level substr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19:33:19Z</dcterms:created>
  <dc:creator>VC</dc:creator>
  <dc:description/>
  <dc:language>en-US</dc:language>
  <cp:lastModifiedBy>VC</cp:lastModifiedBy>
  <dcterms:modified xsi:type="dcterms:W3CDTF">2002-10-15T14:16:26Z</dcterms:modified>
  <cp:revision>23</cp:revision>
  <dc:subject/>
  <dc:title>PowerPoint Presentation</dc:title>
</cp:coreProperties>
</file>