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B49-2993-43D6-BAC1-A518AAD7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3F7-D781-4EC6-965B-68838750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1BA-1A8F-46DF-AC83-78283A20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1ED-C472-45EE-BC39-EF0FB849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65F69-CA2C-4573-9D9C-97C06BFA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B9E6A-B853-49D5-8655-91D5DFD1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99B6B-F20A-42CA-92F3-1A87AA9C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DFE7A-6DE8-4258-A02D-F9A26CA9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AC472-106A-4574-B5D2-09DD1BA1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BEA77-AA91-483B-9445-594A6554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E3156-392B-4DF2-8698-F2D7A1F1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F76-75E4-4869-AADB-85D48848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162B1-8CF3-4695-954B-294536AA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29D3C-3DA7-477F-B501-6DB3E181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BAB96-70DF-4BD1-92FF-84B373A5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33FF8-5D20-4495-85B3-3C18C8DA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B0356-9768-41BA-9EFE-60398079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579-002E-4A87-9486-AD111BD8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171-F2EB-49F0-8E62-461A793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F85-03AE-41B6-8EBB-C0036158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07C-6010-4FBB-9138-771DC57D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90F-F9DD-4F20-B160-3A383FD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498-D61A-49D4-8BBC-4A79F14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C5E-6680-4C35-BF52-B911DA82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Introduction to J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y Ewout Prang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57200" y="5826240"/>
            <a:ext cx="2133720" cy="880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E26CF151-29DE-4F63-BD1B-FF769886E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EE53-5CF6-444E-89E1-A3CBBF92F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node.org/" TargetMode="External"/><Relationship Id="rId3" Type="http://schemas.openxmlformats.org/officeDocument/2006/relationships/hyperlink" Target="http://jnode.org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troduction to JNo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 Java New OS Design Eff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05520" y="5024520"/>
            <a:ext cx="3759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lugins: Extension poi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n extension point is a well known point in the system, where other plugins can “hook” extensions 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vice fin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hell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lugins: Descriptor s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600200"/>
            <a:ext cx="761976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!DOCTYPE plugin SYSTEM "jnode.dtd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plugin id="org.jnode.driver.net.3c90x"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ame="JNode 3Com 90x driver"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version=“0.1.4"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vider-name="JNode.org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require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import plugin="org.jnode.driver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import plugin="org.jnode.driver.net.ethernet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import plugin="org.jnode.net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require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run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library name="jnode.jar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export name="org.jnode.driver.net._3c90x.*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library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run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extension point="org.jnode.driver.mappers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mapper class="org.jnode.driver.net._3c90x._3c90xDeviceToDriverMapper"/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extension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/plugin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evices &amp; Dri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 device framework is modeled arou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vice, Bus, Driver, A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vice discovery &amp; initialization is done v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vice finders &amp; Device to Driver mapp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e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Software representation of Hardware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connected to a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controlled by a d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rovides API’s to the rest of th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identified by a unique 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extends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B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Software representation of a Hardwar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an be connected to other bu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an find devices connected to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extends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ri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the controller of a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the implementor of API’s provides by the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created by a Device to driver map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ever called di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extends D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P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well know programming interface towards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targeted to a specific range of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generic (within the range of devi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interface that extends DeviceA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evice fi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responsible for finding devices on a specific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tantiates Device inst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gisters devices with the DeviceMana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implements DeviceFi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n extension of the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.jnode.driver.finders” extension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evice to Driver mapp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responsible for finding a suitable Driver for a De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tantiates Driver inst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 Java class that implements DeviceToDriverMap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an extension of the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.jnode.driver.mappers” extension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atus (nov-200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Node is becoming a workable OS for develo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rogress is fast and exc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ep informed by our website or mailing 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lobal Archit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irtual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ug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vices &amp; Dri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atus &amp; Cont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urrently supported: (nov-200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me video dri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me network dri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CP/IP st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xtensible command sh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itial FAT file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nta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bsite: </a:t>
            </a: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</a:t>
            </a: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://jnode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mail: jnode-devel at lists.sourceforge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dmin: epr at users.sourceforge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ahoma"/>
              </a:rPr>
              <a:t>Help is always wel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oals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reate a modern OS entirely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asy to install &amp; main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uitable for modern “simple” devic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sktop PC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abl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DA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oals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upport for modern hard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Firew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oals (3): </a:t>
            </a:r>
            <a:r>
              <a:rPr b="1" lang="nl-NL" sz="44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 our go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place Windows within a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place Linux within a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upport every device ever inve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Why do we do i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 prove that it can be d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cause we believe it is the best way for future OS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 have fun doing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lobal Archite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5029200"/>
            <a:ext cx="502920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4343400"/>
            <a:ext cx="1676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ootstrap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4343400"/>
            <a:ext cx="1676520" cy="45720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Java V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4343400"/>
            <a:ext cx="1371600" cy="457200"/>
          </a:xfrm>
          <a:prstGeom prst="rect">
            <a:avLst/>
          </a:prstGeom>
          <a:gradFill rotWithShape="0">
            <a:gsLst>
              <a:gs pos="0">
                <a:srgbClr val="00c6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Unsafe cl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657600"/>
            <a:ext cx="1981080" cy="45720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esource m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971800"/>
            <a:ext cx="1981080" cy="45720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86000" y="2362320"/>
            <a:ext cx="5029200" cy="1752480"/>
            <a:chOff x="2286000" y="2362320"/>
            <a:chExt cx="5029200" cy="1752480"/>
          </a:xfrm>
        </p:grpSpPr>
        <p:sp>
          <p:nvSpPr>
            <p:cNvPr id="105" name=""/>
            <p:cNvSpPr/>
            <p:nvPr/>
          </p:nvSpPr>
          <p:spPr>
            <a:xfrm>
              <a:off x="2286000" y="2743200"/>
              <a:ext cx="2819520" cy="137160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Tahoma"/>
                </a:rPr>
                <a:t>Standard packag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0" y="2362320"/>
              <a:ext cx="5029200" cy="38088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6000" y="1600200"/>
            <a:ext cx="5029200" cy="53352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4267080"/>
            <a:ext cx="1295640" cy="1447920"/>
            <a:chOff x="152280" y="4267080"/>
            <a:chExt cx="1295640" cy="1447920"/>
          </a:xfrm>
        </p:grpSpPr>
        <p:grpSp>
          <p:nvGrpSpPr>
            <p:cNvPr id="109" name=""/>
            <p:cNvGrpSpPr/>
            <p:nvPr/>
          </p:nvGrpSpPr>
          <p:grpSpPr>
            <a:xfrm>
              <a:off x="304920" y="4648320"/>
              <a:ext cx="990360" cy="914400"/>
              <a:chOff x="304920" y="4648320"/>
              <a:chExt cx="990360" cy="914400"/>
            </a:xfrm>
          </p:grpSpPr>
          <p:sp>
            <p:nvSpPr>
              <p:cNvPr id="110" name=""/>
              <p:cNvSpPr/>
              <p:nvPr/>
            </p:nvSpPr>
            <p:spPr>
              <a:xfrm>
                <a:off x="304920" y="4648320"/>
                <a:ext cx="990360" cy="380880"/>
              </a:xfrm>
              <a:prstGeom prst="rect">
                <a:avLst/>
              </a:prstGeom>
              <a:solidFill>
                <a:srgbClr val="00c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Tahoma"/>
                  </a:rPr>
                  <a:t>Jav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4920" y="5181840"/>
                <a:ext cx="990360" cy="380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Tahoma"/>
                  </a:rPr>
                  <a:t>Nativ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52280" y="4267080"/>
              <a:ext cx="1295640" cy="1447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Tahoma"/>
                </a:rPr>
                <a:t>Legen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JNode Java Virtual Mach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ritten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90% platform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preter &amp; Native code compiler (JI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mory management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ompilation of “hot” methods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lug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verything is a plugi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ugins prov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lasses &amp;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xtension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xtension connected to extension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 plugin is described by a descrip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10:06:46Z</dcterms:created>
  <dc:creator>Ewout Prangsma</dc:creator>
  <dc:description/>
  <dc:language>en-US</dc:language>
  <cp:lastModifiedBy>Ewout Prangsma</cp:lastModifiedBy>
  <dcterms:modified xsi:type="dcterms:W3CDTF">2003-11-02T11:27:43Z</dcterms:modified>
  <cp:revision>17</cp:revision>
  <dc:subject/>
  <dc:title>JNode </dc:title>
</cp:coreProperties>
</file>