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18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41.png" ContentType="image/png"/>
  <Override PartName="/ppt/media/image44.png" ContentType="image/png"/>
  <Override PartName="/ppt/media/image40.jpeg" ContentType="image/jpeg"/>
  <Override PartName="/ppt/media/image34.jpeg" ContentType="image/jpeg"/>
  <Override PartName="/ppt/media/image37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1.wmf" ContentType="image/x-wmf"/>
  <Override PartName="/ppt/media/image7.jpeg" ContentType="image/jpeg"/>
  <Override PartName="/ppt/media/image38.jpeg" ContentType="image/jpeg"/>
  <Override PartName="/ppt/media/image28.png" ContentType="image/pn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D15-E1AF-4E3F-B05D-47D65E12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097-CF95-438A-BB7A-22ADD76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3B7-DA4E-4BD5-A2A5-5797777D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8BD-D522-4EC8-9A15-0B34B4FD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D65-0FA4-4065-89D3-082FBE3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2CB-F3BD-4440-9FA7-FBB9C40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B8E-8D0E-4BB6-8D0B-6D46447F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5B8-331D-4CAD-97B9-C8C9C25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D85-163E-440E-8A9D-219A47C4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106-73B7-4589-A297-364C438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193-CC97-4C11-B2C8-D54662B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825-25BD-41BC-9217-AD79CBA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C40A-DFF4-462E-A475-AB80CD00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pes.edu/" TargetMode="External"/><Relationship Id="rId5" Type="http://schemas.openxmlformats.org/officeDocument/2006/relationships/hyperlink" Target="http://www.sun.com/" TargetMode="External"/><Relationship Id="rId6" Type="http://schemas.openxmlformats.org/officeDocument/2006/relationships/image" Target="../media/image44.png"/><Relationship Id="rId7" Type="http://schemas.openxmlformats.org/officeDocument/2006/relationships/hyperlink" Target="http://www.oracle.com/" TargetMode="External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hyperlink" Target="http://www.intel.com/" TargetMode="External"/><Relationship Id="rId11" Type="http://schemas.openxmlformats.org/officeDocument/2006/relationships/image" Target="../media/image47.png"/><Relationship Id="rId12" Type="http://schemas.openxmlformats.org/officeDocument/2006/relationships/hyperlink" Target="http://www.corel.com/" TargetMode="External"/><Relationship Id="rId13" Type="http://schemas.openxmlformats.org/officeDocument/2006/relationships/image" Target="../media/image48.png"/><Relationship Id="rId14" Type="http://schemas.openxmlformats.org/officeDocument/2006/relationships/hyperlink" Target="http://www.hp.com/" TargetMode="External"/><Relationship Id="rId15" Type="http://schemas.openxmlformats.org/officeDocument/2006/relationships/image" Target="../media/image49.png"/><Relationship Id="rId16" Type="http://schemas.openxmlformats.org/officeDocument/2006/relationships/hyperlink" Target="http://www.cisco.com/" TargetMode="External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hyperlink" Target="http://www.nasa.gov/" TargetMode="External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jpe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linux.org/" TargetMode="External"/><Relationship Id="rId5" Type="http://schemas.openxmlformats.org/officeDocument/2006/relationships/hyperlink" Target="http://www.unix-vs-nt.org/kirch" TargetMode="External"/><Relationship Id="rId6" Type="http://schemas.openxmlformats.org/officeDocument/2006/relationships/hyperlink" Target="http://www.unix-vs-nt.org/kirch" TargetMode="External"/><Relationship Id="rId7" Type="http://schemas.openxmlformats.org/officeDocument/2006/relationships/hyperlink" Target="http://www.unix-vs-nt.org/kirch" TargetMode="External"/><Relationship Id="rId8" Type="http://schemas.openxmlformats.org/officeDocument/2006/relationships/hyperlink" Target="http://www.unix-vs-nt.org/kirch" TargetMode="External"/><Relationship Id="rId9" Type="http://schemas.openxmlformats.org/officeDocument/2006/relationships/hyperlink" Target="http://www.unix-vs-nt.org/kirch" TargetMode="External"/><Relationship Id="rId10" Type="http://schemas.openxmlformats.org/officeDocument/2006/relationships/hyperlink" Target="http://www.unix-vs-nt.org/kirch" TargetMode="External"/><Relationship Id="rId11" Type="http://schemas.openxmlformats.org/officeDocument/2006/relationships/hyperlink" Target="http://www.unix-vs-nt.org/kirch" TargetMode="External"/><Relationship Id="rId12" Type="http://schemas.openxmlformats.org/officeDocument/2006/relationships/hyperlink" Target="http://www.tir.com/~sorceror/mdlug/mdlug.zip" TargetMode="External"/><Relationship Id="rId13" Type="http://schemas.openxmlformats.org/officeDocument/2006/relationships/hyperlink" Target="http://www.tir.com/~sorceror/mdlug/mdlug.zip" TargetMode="External"/><Relationship Id="rId14" Type="http://schemas.openxmlformats.org/officeDocument/2006/relationships/hyperlink" Target="http://www.tir.com/~sorceror/mdlug/mdlug.zip" TargetMode="External"/><Relationship Id="rId15" Type="http://schemas.openxmlformats.org/officeDocument/2006/relationships/hyperlink" Target="http://www.tir.com/~sorceror/mdlug/mdlug.zip" TargetMode="External"/><Relationship Id="rId16" Type="http://schemas.openxmlformats.org/officeDocument/2006/relationships/hyperlink" Target="http://www.tir.com/~sorceror/mdlug/mdlug.zip" TargetMode="External"/><Relationship Id="rId17" Type="http://schemas.openxmlformats.org/officeDocument/2006/relationships/hyperlink" Target="http://www.tir.com/~sorceror/mdlug/mdlug.zip" TargetMode="External"/><Relationship Id="rId18" Type="http://schemas.openxmlformats.org/officeDocument/2006/relationships/hyperlink" Target="http://www.tir.com/~sorceror/mdlug/mdlug.zip" TargetMode="External"/><Relationship Id="rId19" Type="http://schemas.openxmlformats.org/officeDocument/2006/relationships/hyperlink" Target="http://www.tir.com/~sorceror/mdlug/mdlug.zip" TargetMode="External"/><Relationship Id="rId20" Type="http://schemas.openxmlformats.org/officeDocument/2006/relationships/hyperlink" Target="http://www.tir.com/~sorceror/mdlug/mdlug.zip" TargetMode="External"/><Relationship Id="rId21" Type="http://schemas.openxmlformats.org/officeDocument/2006/relationships/hyperlink" Target="http://ragib.hypermart.net/linux" TargetMode="External"/><Relationship Id="rId22" Type="http://schemas.openxmlformats.org/officeDocument/2006/relationships/hyperlink" Target="http://ragib.hypermart.net/linux" TargetMode="External"/><Relationship Id="rId23" Type="http://schemas.openxmlformats.org/officeDocument/2006/relationships/hyperlink" Target="http://ragib.hypermart.net/linux" TargetMode="External"/><Relationship Id="rId24" Type="http://schemas.openxmlformats.org/officeDocument/2006/relationships/hyperlink" Target="http://ragib.hypermart.net/linux" TargetMode="External"/><Relationship Id="rId25" Type="http://schemas.openxmlformats.org/officeDocument/2006/relationships/hyperlink" Target="http://ragib.hypermart.net/linux" TargetMode="External"/><Relationship Id="rId26" Type="http://schemas.openxmlformats.org/officeDocument/2006/relationships/hyperlink" Target="http://ragib.hypermart.net/linux" TargetMode="External"/><Relationship Id="rId27" Type="http://schemas.openxmlformats.org/officeDocument/2006/relationships/hyperlink" Target="http://ragib.hypermart.net/linux" TargetMode="External"/><Relationship Id="rId28" Type="http://schemas.openxmlformats.org/officeDocument/2006/relationships/hyperlink" Target="http://www.cs.helsinki.fi/~torvalds/" TargetMode="External"/><Relationship Id="rId29" Type="http://schemas.openxmlformats.org/officeDocument/2006/relationships/hyperlink" Target="http://www.cs.helsinki.fi/~torvalds/" TargetMode="External"/><Relationship Id="rId30" Type="http://schemas.openxmlformats.org/officeDocument/2006/relationships/hyperlink" Target="http://www.cs.helsinki.fi/~torvalds/" TargetMode="External"/><Relationship Id="rId31" Type="http://schemas.openxmlformats.org/officeDocument/2006/relationships/hyperlink" Target="http://www.cs.helsinki.fi/~torvalds/" TargetMode="External"/><Relationship Id="rId32" Type="http://schemas.openxmlformats.org/officeDocument/2006/relationships/hyperlink" Target="http://www.cs.helsinki.fi/~torvalds/" TargetMode="External"/><Relationship Id="rId33" Type="http://schemas.openxmlformats.org/officeDocument/2006/relationships/hyperlink" Target="http://www.cs.helsinki.fi/~torvalds/" TargetMode="External"/><Relationship Id="rId34" Type="http://schemas.openxmlformats.org/officeDocument/2006/relationships/hyperlink" Target="http://www.cs.helsinki.fi/~torvalds/" TargetMode="External"/><Relationship Id="rId35" Type="http://schemas.openxmlformats.org/officeDocument/2006/relationships/hyperlink" Target="http://www.cs.helsinki.fi/~torvalds/" TargetMode="External"/><Relationship Id="rId36" Type="http://schemas.openxmlformats.org/officeDocument/2006/relationships/hyperlink" Target="http://www.cs.helsinki.fi/~torvalds/" TargetMode="External"/><Relationship Id="rId37" Type="http://schemas.openxmlformats.org/officeDocument/2006/relationships/hyperlink" Target="http://www.m-tech.ab.ca/linux-biz/" TargetMode="External"/><Relationship Id="rId38" Type="http://schemas.openxmlformats.org/officeDocument/2006/relationships/hyperlink" Target="http://www.m-tech.ab.ca/linux-biz/" TargetMode="External"/><Relationship Id="rId39" Type="http://schemas.openxmlformats.org/officeDocument/2006/relationships/hyperlink" Target="http://www.m-tech.ab.ca/linux-biz/" TargetMode="External"/><Relationship Id="rId40" Type="http://schemas.openxmlformats.org/officeDocument/2006/relationships/hyperlink" Target="http://www.m-tech.ab.ca/linux-biz/" TargetMode="External"/><Relationship Id="rId41" Type="http://schemas.openxmlformats.org/officeDocument/2006/relationships/hyperlink" Target="http://www.m-tech.ab.ca/linux-biz/" TargetMode="External"/><Relationship Id="rId42" Type="http://schemas.openxmlformats.org/officeDocument/2006/relationships/hyperlink" Target="http://www.li.org/" TargetMode="External"/><Relationship Id="rId43" Type="http://schemas.openxmlformats.org/officeDocument/2006/relationships/hyperlink" Target="news://comp.os.linux/" TargetMode="External"/><Relationship Id="rId44" Type="http://schemas.openxmlformats.org/officeDocument/2006/relationships/hyperlink" Target="news://comp.os.linux/" TargetMode="External"/><Relationship Id="rId45" Type="http://schemas.openxmlformats.org/officeDocument/2006/relationships/hyperlink" Target="news://comp.os.linux/" TargetMode="External"/><Relationship Id="rId46" Type="http://schemas.openxmlformats.org/officeDocument/2006/relationships/hyperlink" Target="news://comp.os.linux/" TargetMode="External"/><Relationship Id="rId47" Type="http://schemas.openxmlformats.org/officeDocument/2006/relationships/hyperlink" Target="http://ingeek.cjb.net/" TargetMode="External"/><Relationship Id="rId48" Type="http://schemas.openxmlformats.org/officeDocument/2006/relationships/hyperlink" Target="http://ingeek.cjb.net/" TargetMode="External"/><Relationship Id="rId49" Type="http://schemas.openxmlformats.org/officeDocument/2006/relationships/hyperlink" Target="http://ingeek.cjb.net/" TargetMode="External"/><Relationship Id="rId50" Type="http://schemas.openxmlformats.org/officeDocument/2006/relationships/hyperlink" Target="http://ingeek.cjb.net/" TargetMode="External"/><Relationship Id="rId51" Type="http://schemas.openxmlformats.org/officeDocument/2006/relationships/hyperlink" Target="http://ingeek.cjb.net/" TargetMode="External"/><Relationship Id="rId52" Type="http://schemas.openxmlformats.org/officeDocument/2006/relationships/hyperlink" Target="mailto:ndeepak81@yahoo.co.in" TargetMode="External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enguin-sit3" descr=""/>
          <p:cNvPicPr/>
          <p:nvPr/>
        </p:nvPicPr>
        <p:blipFill>
          <a:blip r:embed="rId3"/>
          <a:stretch/>
        </p:blipFill>
        <p:spPr>
          <a:xfrm>
            <a:off x="3124080" y="83808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572000"/>
            <a:ext cx="8001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ntroduction to the History, Status, Usability, and Future of the Linux Operating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N Deepak, IV Semester BE (Comp.), PESIT, Bangalore INDIA. Ma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638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4280" y="3884760"/>
            <a:ext cx="502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(R)Evolution of an O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2448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Monotype Corsiva"/>
              </a:rPr>
              <a:t>Background Music: A MIDI file of Violin Concerto by Beethoven, Op. 61, 9:12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and 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was designed with the notion that multiple people would be sharing use of the system at the same ti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veral people can log into a Linux machine and each of them can run whatever programs they li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applications are written from scratch with the idea that multiple people will be using them, and each may have entirely different preferences. Many peopl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applic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ti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heir li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467480" cy="175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62720"/>
            <a:ext cx="17524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1143000" cy="304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63868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617220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105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N, 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0" idx="1"/>
          </p:cNvCxnSpPr>
          <p:nvPr/>
        </p:nvCxnSpPr>
        <p:spPr>
          <a:xfrm flipV="1">
            <a:off x="2666520" y="5257440"/>
            <a:ext cx="762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3"/>
            <a:endCxn id="142" idx="1"/>
          </p:cNvCxnSpPr>
          <p:nvPr/>
        </p:nvCxnSpPr>
        <p:spPr>
          <a:xfrm>
            <a:off x="2666520" y="5829120"/>
            <a:ext cx="762840" cy="49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 flipH="1">
            <a:off x="3048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181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715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79 people once ran GUIs from a Linux server with no slowing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8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indows allows the use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L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Dynamic Linker Libraries) to modularize applications and reuse code. But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version confli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ten arise, which might make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121932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Remote Administration and DLL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730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ause of the fundamental design of UNIX, every application ca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n one machine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s interface on another. This is extremely useful f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o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13064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 the whole OS useless. Linux also handles DLLs (calle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hared obje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,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hecks the version of DL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ach   app is asking, and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ks the correct vers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Windows, the program may simply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38680" y="4419720"/>
            <a:ext cx="2438280" cy="1876680"/>
            <a:chOff x="5638680" y="4419720"/>
            <a:chExt cx="2438280" cy="1876680"/>
          </a:xfrm>
        </p:grpSpPr>
        <p:pic>
          <p:nvPicPr>
            <p:cNvPr id="161" name="crash29" descr=""/>
            <p:cNvPicPr/>
            <p:nvPr/>
          </p:nvPicPr>
          <p:blipFill>
            <a:blip r:embed="rId4"/>
            <a:stretch/>
          </p:blipFill>
          <p:spPr>
            <a:xfrm>
              <a:off x="5638680" y="4419720"/>
              <a:ext cx="23814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0960" y="6019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A DLL Goof-up in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6680"/>
            <a:ext cx="74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 Intel 386 and above, Linux runs fully in protecte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2952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outstanding in the area of memory management.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ill use every scrap of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a system to its full potential. The Linux kernel occupies just 2 MB, whereas NT takes 1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use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py-on-wr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che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f two or more programs are using the same block of memory, only one copy is actually in RA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all the programs read the same block. If one program writes to that block, then a copy is made for just that program. All other programs still share the same memory. When loading DLLs, this is a major memory 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1981080"/>
            <a:ext cx="1752840" cy="1747440"/>
            <a:chOff x="6324480" y="1981080"/>
            <a:chExt cx="1752840" cy="17474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99440" y="1981080"/>
              <a:ext cx="13352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324480" y="32695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How shall I get 64 MB AGAIN for Win 2000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03320"/>
            <a:ext cx="7848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Linux machine! Because a 486 is a terrible thing to was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and-load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very useful as well. Linux only loads into RAM the portions of a program that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ing used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uces overall RAM requirements significant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same time, when swapping is necessary, on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or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programs are swapped out to disk, not entire processes. This helps to greatly enhanc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ultiprocess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0250650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343160" cy="1342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1911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lly, any RAM not being used by the kernel or applications is automatical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k ca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speeds access to the disk so long as there is unused memory. On the other hand, memory management is poorest in Windo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53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Why waste money on upgrades when you can use it with Linu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/Netscape ran 30-40% faster than NT/IE: Memo, MS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normally uses its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gh-performance file syste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uses disk space much more efficiently, optimizes for speed on reading and writing, and automatically prevents fragment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Linux file-system literally does not need a defragmenter, though one is available. It also sees when programs make errors writing to the disk and automatically prevents them, so there is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need to run a disk check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you notic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hdisk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1409760" cy="13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572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also read and write all FAT variants (FAT12, FAT32), Windows NT's NTFS, OS/2's HPFS, and many others you've never heard of. Oft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can use them faster than their native operating system 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Linux can use your hard  disk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320" y="152280"/>
            <a:ext cx="6758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Linux EXT2 file system supports up to 4000 GB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has the Unmatched Stability of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434340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also provide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ynamically increa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wap 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 later without a reboot, unlike Windows, where it grows and grows until a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752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enforc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tric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par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between the kernel and other applica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Most services like mail, file and print serving, web serving and so on are applications, and can usually be changed dynamically. At worst, a specific application may need to be restarted, and not the whole system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boots are only  for  kernel  updates  and  hardware chang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UNIX systems have uptimes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562720" y="4495680"/>
            <a:ext cx="2438280" cy="1761480"/>
            <a:chOff x="5562720" y="4495680"/>
            <a:chExt cx="2438280" cy="1761480"/>
          </a:xfrm>
        </p:grpSpPr>
        <p:pic>
          <p:nvPicPr>
            <p:cNvPr id="199" name="crash33" descr=""/>
            <p:cNvPicPr/>
            <p:nvPr/>
          </p:nvPicPr>
          <p:blipFill>
            <a:blip r:embed="rId4"/>
            <a:stretch/>
          </p:blipFill>
          <p:spPr>
            <a:xfrm>
              <a:off x="5562720" y="4495680"/>
              <a:ext cx="239652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62720" y="59806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MS Word has fro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8600" y="1522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UNIX box once ran for 11 years. It was rebooted for an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built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CP/IP networking and the Internet was originally developed on UNIX systems, and mos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igh-power networking in the world is done on U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bou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web servers on the Net run a version of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-small" descr=""/>
          <p:cNvPicPr/>
          <p:nvPr/>
        </p:nvPicPr>
        <p:blipFill>
          <a:blip r:embed="rId4"/>
          <a:stretch/>
        </p:blipFill>
        <p:spPr>
          <a:xfrm>
            <a:off x="6620040" y="1828800"/>
            <a:ext cx="1457280" cy="153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5812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fact, Linux has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argest market sh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 the entire Internet, running 25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26.9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b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33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TP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the world. Apart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xtremely fast and reliable network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dozens of major and minor network services are usually provided when you get Linux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Web servers, file and print servers, ftp servers, NIS servers, IRC servers, 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o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vailable for free or very little co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4290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Linux is network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6680"/>
            <a:ext cx="8305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Download.com, which has thousands of Windows apps, runs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752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a very secure operating system, much more so than Windows 9x, and at least the equal of Windows 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54628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each application runs in its own protected memory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is not possible for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vir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o inf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other application running in memory. Linux also has file permission structure which greatly limits the damage a virus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181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ess pron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acker attack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an most OSes. This is partly because of its design and its open-source nature. Security bugs are fixed very quickly, often within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2514600"/>
            <a:ext cx="3048120" cy="2532240"/>
            <a:chOff x="4952880" y="2514600"/>
            <a:chExt cx="3048120" cy="2532240"/>
          </a:xfrm>
        </p:grpSpPr>
        <p:pic>
          <p:nvPicPr>
            <p:cNvPr id="219" name="loveyou" descr=""/>
            <p:cNvPicPr/>
            <p:nvPr/>
          </p:nvPicPr>
          <p:blipFill>
            <a:blip r:embed="rId4"/>
            <a:stretch/>
          </p:blipFill>
          <p:spPr>
            <a:xfrm>
              <a:off x="5029200" y="2743200"/>
              <a:ext cx="289548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67280" y="251460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 toonshome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4648320"/>
              <a:ext cx="297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Arial"/>
                </a:rPr>
                <a:t>Oh, was that you? I thought it was a virus and I deleted the mai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666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ly one virus is known in UNIX: it was created at AT&amp;T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038320" y="857160"/>
            <a:ext cx="398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vs. Windows N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emerging as a strong competitor to NT. It has given enough scare to Microsoft, that it circulated a memo on the damaging effects of Open-Source revolution! This t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ilt by a Microsoft certified NT profession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 shows a feature by feature comparison of Linux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195720"/>
            <a:ext cx="7696440" cy="3357360"/>
            <a:chOff x="380880" y="3195720"/>
            <a:chExt cx="7696440" cy="3357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380880" y="3844800"/>
              <a:ext cx="76964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FLAG" descr=""/>
            <p:cNvPicPr/>
            <p:nvPr/>
          </p:nvPicPr>
          <p:blipFill>
            <a:blip r:embed="rId4"/>
            <a:stretch/>
          </p:blipFill>
          <p:spPr>
            <a:xfrm>
              <a:off x="6477120" y="3195720"/>
              <a:ext cx="6858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enguin-sit3" descr=""/>
            <p:cNvPicPr/>
            <p:nvPr/>
          </p:nvPicPr>
          <p:blipFill>
            <a:blip r:embed="rId5"/>
            <a:stretch/>
          </p:blipFill>
          <p:spPr>
            <a:xfrm>
              <a:off x="3733920" y="3200400"/>
              <a:ext cx="5443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1676520"/>
            <a:ext cx="51051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open, so in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nome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gnomesmall" descr=""/>
          <p:cNvPicPr/>
          <p:nvPr/>
        </p:nvPicPr>
        <p:blipFill>
          <a:blip r:embed="rId5"/>
          <a:stretch/>
        </p:blipFill>
        <p:spPr>
          <a:xfrm>
            <a:off x="6172200" y="2666880"/>
            <a:ext cx="2082960" cy="1562400"/>
          </a:xfrm>
          <a:prstGeom prst="rect">
            <a:avLst/>
          </a:prstGeom>
          <a:ln w="0">
            <a:noFill/>
          </a:ln>
        </p:spPr>
      </p:pic>
      <p:pic>
        <p:nvPicPr>
          <p:cNvPr id="241" name="kde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142884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kde2_3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343400"/>
            <a:ext cx="2057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UIs lik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O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ake a Linux desktop enviable. Hang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181480"/>
            <a:ext cx="53341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as nice 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ight be a valid argument, but thankfully, our world is still a very good place. When programmers find a piece of bug in the source, they quickly tr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, rather than capitalize on it. If you hack into a system based on a bug you found in Linux, it is only so long as another guy finds out the bug and fix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47920" y="914400"/>
            <a:ext cx="555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Few Myths About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t would have cost a firm over $1 billion to develop Red Hat 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752480"/>
            <a:ext cx="7620120" cy="378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tory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eatures Supported Unde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Few Myths Abou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resolved Issue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jor Supporter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uture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knowledgments and Resource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ng-gazette-tr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221940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66880" y="990720"/>
            <a:ext cx="32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Brief Overview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66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pronounced lee’-nooks or ly’-nuhks or luh’-nuhks. Your wis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nux2morrow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3181320" cy="115740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252" name="linux-screenshot2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6193400">
            <a:off x="6343560" y="3447360"/>
            <a:ext cx="3552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y Linux Desktop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771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creenshot of Red Hat Linux 6.2 taken with GIMP, the GNU Image Manipul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266724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X Multimedia System to play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295280"/>
            <a:ext cx="220968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Electric Eyes, a graphic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895480"/>
            <a:ext cx="2133720" cy="580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ully-loaded Start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57200"/>
            <a:ext cx="2057400" cy="580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eature-packed text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352680"/>
            <a:ext cx="1752840" cy="580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File Browser: Point and clic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809880"/>
            <a:ext cx="990720" cy="82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 Narrow"/>
              </a:rPr>
              <a:t>The popular GIM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480" y="1066680"/>
            <a:ext cx="71629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t many applications 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343400"/>
            <a:ext cx="7238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have a centraliz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876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might be coded by programmers around the world, but the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group of people headed by Linus who have the ultimate say on it. They decide on the next version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s of today, there are abo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15,000 applications built for the Linux platfo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You can code in C, C++, Java etc.; listen to music; browse the Web; play an action game; watch a movie; and even modify this slideshow with Star Off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mydesk1-s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1904760" cy="141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3429000"/>
            <a:ext cx="228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You can do everything in Linux as in Windows</a:t>
            </a:r>
            <a:r>
              <a:rPr b="0" i="1" lang="en-US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66680"/>
            <a:ext cx="76964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WordPerfect for Linux has features not found in its DOS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676520"/>
            <a:ext cx="3810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MM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3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di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Text Editor fo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F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GUI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obust News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fis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HTML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napster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Napster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develo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/C++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r Offi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rom Sun,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iLab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cientific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pln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ee Today’s Stars o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M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un Win apps in Linu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95680" y="1676520"/>
            <a:ext cx="335304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-Ch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h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pplix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Offic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bcd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D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ai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OL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J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Java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dGar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PHP Dev.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rel WordPerfec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uxCA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AD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tv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EG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real Tourna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ho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ShipW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3D Spac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linuxapps" descr=""/>
          <p:cNvPicPr/>
          <p:nvPr/>
        </p:nvPicPr>
        <p:blipFill>
          <a:blip r:embed="rId3"/>
          <a:stretch/>
        </p:blipFill>
        <p:spPr>
          <a:xfrm>
            <a:off x="3895560" y="1809720"/>
            <a:ext cx="524160" cy="29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rot="16155600">
            <a:off x="3185640" y="169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urce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990720"/>
            <a:ext cx="676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Short List of Most Popular Linux Software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371600"/>
            <a:ext cx="670536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Garamond"/>
              </a:rPr>
              <a:t>See the huge variety for yoursel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914400"/>
            <a:ext cx="74674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rious UNIXes are fragmenting into a plethora of incompatibl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28800"/>
            <a:ext cx="60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as the trend sometime back, but since the past ten years, they all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verg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systems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roadly adhere to ANSI and POSIX standar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that allow software to b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-compatib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ross different platforms, ranging from embedded micro-controllers to supercomputers. The X/OPEN standard allows a common desktop across all platforms. On the Intel X86 platform, for example, Linux can run SCO UNIX binaries, and FreeBSD can run Linux binaries. In a nutshell, there is as little a difference as among, say, Windows 3.1, Windows 9X,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981080"/>
            <a:ext cx="1371600" cy="4529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me UN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C Digital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O Unix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GI I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n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66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13 root servers of the Internet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5410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so many people have contributed to the operating system, there are instances where an application behaves strangely, or crashes. A bug-report window quickly pops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very beginn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2096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be overwhelming for a new user from Windows. Stop comparing Linux with Windows every once in a while, and you will gradually appreciate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952880"/>
            <a:ext cx="75438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ion lacks among app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505320"/>
            <a:ext cx="5867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Linux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talling Linux is really a hard task for a newbie. It is better to keep a guru at hand, since it needs a lot of technical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57400" y="990720"/>
            <a:ext cx="45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Some Issues in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9" name="geekhed2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1419480" cy="97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the No 1 threat to Windows: Steve Ballmer, MS 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48769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a long list of hardware which do not work under Linux. You have to throw away Win-Modems and Win-Printers, and even if your hardware is supported, it may not work as well as in Windows. Some have even caught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066680"/>
            <a:ext cx="7467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lack of online help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7467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still heavily command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p in Linux is in the form of long technical manuals, and user-friendly documentation has only recently been tak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124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phical environments like KDE are  under constant development and testing, so commands are the best way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work on many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linux" descr=""/>
          <p:cNvPicPr/>
          <p:nvPr/>
        </p:nvPicPr>
        <p:blipFill>
          <a:blip r:embed="rId6"/>
          <a:stretch/>
        </p:blipFill>
        <p:spPr>
          <a:xfrm>
            <a:off x="5562720" y="3276720"/>
            <a:ext cx="226224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166680"/>
            <a:ext cx="76197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Red Hat 7.1 has over 30 million lines of source code, mostly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1447920"/>
            <a:ext cx="7620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ive a listing of the current directory. Try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 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opy file from sourc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Move file from source to destination. If both are the same directory, the file is re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Edit a fil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one of the most powerful 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file per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di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/Remove a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Remove a file. Can also remove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 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et help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ll commands hav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cmd-prompt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000160" cy="14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914400"/>
            <a:ext cx="6915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"/>
              </a:rPr>
              <a:t>$ Some Important Commands in UNIX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072200" y="4431600"/>
            <a:ext cx="1981080" cy="27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Xterm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743200"/>
            <a:ext cx="7772400" cy="324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nguincool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spite of all these setbacks, Linux has found a large following, from behemoth companies to tech geeks. Here is a short list of major supporters and users of 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609588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y, even our own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Garamond"/>
                <a:hlinkClick r:id="rId4"/>
              </a:rPr>
              <a:t>pes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runs on Linux Apache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unlog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895480"/>
            <a:ext cx="1133280" cy="57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29" name="logo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4495680"/>
            <a:ext cx="1666800" cy="266760"/>
          </a:xfrm>
          <a:prstGeom prst="rect">
            <a:avLst/>
          </a:prstGeom>
          <a:ln w="0">
            <a:noFill/>
          </a:ln>
        </p:spPr>
      </p:pic>
      <p:pic>
        <p:nvPicPr>
          <p:cNvPr id="330" name="netscape_logo" descr=""/>
          <p:cNvPicPr/>
          <p:nvPr/>
        </p:nvPicPr>
        <p:blipFill>
          <a:blip r:embed="rId9"/>
          <a:stretch/>
        </p:blipFill>
        <p:spPr>
          <a:xfrm>
            <a:off x="2514600" y="5257800"/>
            <a:ext cx="161928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447920" y="914400"/>
            <a:ext cx="56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ajor Supporter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2" name="untitled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62320" y="3962520"/>
            <a:ext cx="628560" cy="328320"/>
          </a:xfrm>
          <a:prstGeom prst="rect">
            <a:avLst/>
          </a:prstGeom>
          <a:ln w="0">
            <a:noFill/>
          </a:ln>
        </p:spPr>
      </p:pic>
      <p:pic>
        <p:nvPicPr>
          <p:cNvPr id="333" name="corel_logo,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289548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hm_logo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86200" y="4038480"/>
            <a:ext cx="7048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logo-tagline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33520" y="3962520"/>
            <a:ext cx="101916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usps_logo_long" descr=""/>
          <p:cNvPicPr/>
          <p:nvPr/>
        </p:nvPicPr>
        <p:blipFill>
          <a:blip r:embed="rId18"/>
          <a:srcRect l="0" t="0" r="68892" b="0"/>
          <a:stretch/>
        </p:blipFill>
        <p:spPr>
          <a:xfrm>
            <a:off x="5791320" y="289548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hotnasa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95680" y="2895480"/>
            <a:ext cx="743040" cy="648000"/>
          </a:xfrm>
          <a:prstGeom prst="rect">
            <a:avLst/>
          </a:prstGeom>
          <a:ln w="0">
            <a:noFill/>
          </a:ln>
        </p:spPr>
      </p:pic>
      <p:pic>
        <p:nvPicPr>
          <p:cNvPr id="338" name="merc" descr=""/>
          <p:cNvPicPr/>
          <p:nvPr/>
        </p:nvPicPr>
        <p:blipFill>
          <a:blip r:embed="rId21"/>
          <a:stretch/>
        </p:blipFill>
        <p:spPr>
          <a:xfrm>
            <a:off x="6781680" y="3962520"/>
            <a:ext cx="1057320" cy="679320"/>
          </a:xfrm>
          <a:prstGeom prst="rect">
            <a:avLst/>
          </a:prstGeom>
          <a:ln w="0">
            <a:noFill/>
          </a:ln>
        </p:spPr>
      </p:pic>
      <p:pic>
        <p:nvPicPr>
          <p:cNvPr id="339" name="boeing" descr=""/>
          <p:cNvPicPr/>
          <p:nvPr/>
        </p:nvPicPr>
        <p:blipFill>
          <a:blip r:embed="rId22"/>
          <a:stretch/>
        </p:blipFill>
        <p:spPr>
          <a:xfrm>
            <a:off x="6705720" y="510552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340" name="mast_logo" descr=""/>
          <p:cNvPicPr/>
          <p:nvPr/>
        </p:nvPicPr>
        <p:blipFill>
          <a:blip r:embed="rId23"/>
          <a:stretch/>
        </p:blipFill>
        <p:spPr>
          <a:xfrm>
            <a:off x="4952880" y="4114800"/>
            <a:ext cx="1428840" cy="44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166680"/>
            <a:ext cx="73152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Complete list: http://www.m-tech.ab.ca/linux-biz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omepage_topnav" descr=""/>
          <p:cNvPicPr/>
          <p:nvPr/>
        </p:nvPicPr>
        <p:blipFill>
          <a:blip r:embed="rId24"/>
          <a:stretch/>
        </p:blipFill>
        <p:spPr>
          <a:xfrm>
            <a:off x="4572000" y="5257800"/>
            <a:ext cx="167652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masthead_dell2" descr=""/>
          <p:cNvPicPr/>
          <p:nvPr/>
        </p:nvPicPr>
        <p:blipFill>
          <a:blip r:embed="rId25"/>
          <a:stretch/>
        </p:blipFill>
        <p:spPr>
          <a:xfrm>
            <a:off x="552600" y="5172120"/>
            <a:ext cx="1428480" cy="54288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190520" y="838080"/>
            <a:ext cx="5896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en Good Reasons to Use Linux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371600"/>
            <a:ext cx="7543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inux distribution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oftware worth thousands of doll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or virtually n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operating system i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ery power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lete 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includ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compilers, toolkits, and script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twor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acilities, allowing you to shar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utilizes your memory, CPU, and other hardware to the full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wide variety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ercial soft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also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is very easil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pgrad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ple processo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 So many apps,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GUIs are more powerfu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han Ma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appMenus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Final Side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180800">
            <a:off x="6257160" y="4865760"/>
            <a:ext cx="3429000" cy="246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Mac beats Win, and Lin beats Mac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9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ast few minutes have talked a lot about Linux. Given all this information, we now have a question before us: Where is Tux the penguin heading for, and what i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146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world has just begun to understand the freedom inherent in Linux. That is why the uses to which Linux has been put so far are only as a desktop and as a server. But many exciting developments are headed ou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Garamond"/>
              </a:rPr>
              <a:t>Linux is all set to make its mark in the future computing industry</a:t>
            </a:r>
            <a:r>
              <a:rPr b="0" lang="en-US" sz="24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3434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-based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rout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re a very cost-effective alternative to Cisco routers. Other innovative products that have already arrived ar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V set-top bo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P3 music player for ca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ardly anyone's mental model of a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838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: The Futur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0" name="roared" descr=""/>
          <p:cNvPicPr/>
          <p:nvPr/>
        </p:nvPicPr>
        <p:blipFill>
          <a:blip r:embed="rId3"/>
          <a:stretch/>
        </p:blipFill>
        <p:spPr>
          <a:xfrm>
            <a:off x="6618240" y="2514600"/>
            <a:ext cx="115416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705720" y="4267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NY Ti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172400">
            <a:off x="6477840" y="281808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bites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66680"/>
            <a:ext cx="67816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: Best Desktop Computer OS: InfoWorld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5909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Linux operating system was first coded by a Finnish computer programmer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nus Benedict Torval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199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hen he was just 21!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 had got a new 386, and he found the existing DOS and UNIX too expensive and in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810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ose days, a UNIX-like tiny, free OS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as extensively used for academic purposes. Since its source code was avail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decided to take Minix as a mod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his own words, ‘I wanted to write a better Minix than Minix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rvalds" descr=""/>
          <p:cNvPicPr/>
          <p:nvPr/>
        </p:nvPicPr>
        <p:blipFill>
          <a:blip r:embed="rId4"/>
          <a:stretch/>
        </p:blipFill>
        <p:spPr>
          <a:xfrm>
            <a:off x="5867280" y="2590920"/>
            <a:ext cx="2019600" cy="222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114300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Origin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s now works for Transmeta Corp. in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828800"/>
            <a:ext cx="7543800" cy="68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"/>
              </a:rPr>
              <a:t>http://www.linux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definitive Linux portal for all kind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doc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Documentation Project. Worth a vi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6"/>
              </a:rPr>
              <a:t>uni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8"/>
              </a:rPr>
              <a:t>v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9"/>
              </a:rPr>
              <a:t>-nt.org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0"/>
              </a:rPr>
              <a:t>kirch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1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 impartial comparison of the two 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2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3"/>
              </a:rPr>
              <a:t>ti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4"/>
              </a:rPr>
              <a:t>.com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5"/>
              </a:rPr>
              <a:t>sorcero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7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8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9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0"/>
              </a:rPr>
              <a:t>.zip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TML slideshow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1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2"/>
              </a:rPr>
              <a:t>ragi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4"/>
              </a:rPr>
              <a:t>hypermart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5"/>
              </a:rPr>
              <a:t>.net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6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7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history of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8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9"/>
              </a:rPr>
              <a:t>c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0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1"/>
              </a:rPr>
              <a:t>helsink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2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3"/>
              </a:rPr>
              <a:t>f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4"/>
              </a:rPr>
              <a:t>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5"/>
              </a:rPr>
              <a:t>torvald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6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nus h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7"/>
              </a:rPr>
              <a:t>http://www.m-tech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8"/>
              </a:rPr>
              <a:t>a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9"/>
              </a:rPr>
              <a:t>.ca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0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1"/>
              </a:rPr>
              <a:t>-biz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st of businesses and firms using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-india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ome page of the Indian Linux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apps.com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uge directory of Linux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2"/>
              </a:rPr>
              <a:t>http://www.li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3"/>
              </a:rPr>
              <a:t>news://comp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4"/>
              </a:rPr>
              <a:t>o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6"/>
              </a:rPr>
              <a:t>linux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Usenet news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7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8"/>
              </a:rPr>
              <a:t>ingeek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9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0"/>
              </a:rPr>
              <a:t>cj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1"/>
              </a:rPr>
              <a:t>.net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home page: for a newer version of this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2"/>
              </a:rPr>
              <a:t>ndeepak81@yahoo.co.in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e-mail address--for any comment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066680"/>
            <a:ext cx="7467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cknowledgments, Resources, and Contact Infor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ee also: FreeBSD, a free UNIX, at www.freebs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295280"/>
            <a:ext cx="74674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ing and Grow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05740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order to encourage wide dissemination of his O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made the source code open to public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end of 1992 there were about a hundred Linux developers. Next year there were 1000. And the numbers multipli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ent estimates s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out 15 million people use Linux worldwi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s the graph given by the Linux Counter web site shows, the OS is poised for a great futur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6680"/>
            <a:ext cx="6019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f you run Linux, get counted at www.l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952880"/>
            <a:ext cx="26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The Linux Co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2209680"/>
            <a:ext cx="3352680" cy="2745360"/>
            <a:chOff x="4572000" y="2209680"/>
            <a:chExt cx="3352680" cy="2745360"/>
          </a:xfrm>
        </p:grpSpPr>
        <p:pic>
          <p:nvPicPr>
            <p:cNvPr id="79" name="all-users" descr=""/>
            <p:cNvPicPr/>
            <p:nvPr/>
          </p:nvPicPr>
          <p:blipFill>
            <a:blip r:embed="rId4"/>
            <a:stretch/>
          </p:blipFill>
          <p:spPr>
            <a:xfrm>
              <a:off x="4572000" y="2209680"/>
              <a:ext cx="33526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0" y="4647960"/>
              <a:ext cx="33526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Linux: No of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ough Linus never imagined it, Linux quickly became a general tool for computing. People stopped looking at Linux as a toy, and began to think about it seriously. Today there are thousands of applications that can be run on Linux, from Office Suites to 3D games. Hundre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ux User 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e world over discuss ways to make Linux work better. Umpteen number of web sites, and thousan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ws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iling lis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lk about Linux. Even Bangalore has its own Linux Users Group which meets every mon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ddw4" descr=""/>
          <p:cNvPicPr/>
          <p:nvPr/>
        </p:nvPicPr>
        <p:blipFill>
          <a:blip r:embed="rId4"/>
          <a:stretch/>
        </p:blipFill>
        <p:spPr>
          <a:xfrm>
            <a:off x="4724280" y="533412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linusnow1" descr=""/>
          <p:cNvPicPr/>
          <p:nvPr/>
        </p:nvPicPr>
        <p:blipFill>
          <a:blip r:embed="rId5"/>
          <a:stretch/>
        </p:blipFill>
        <p:spPr>
          <a:xfrm>
            <a:off x="2438280" y="5410080"/>
            <a:ext cx="1498680" cy="989280"/>
          </a:xfrm>
          <a:prstGeom prst="rect">
            <a:avLst/>
          </a:prstGeom>
          <a:ln w="0">
            <a:noFill/>
          </a:ln>
        </p:spPr>
      </p:pic>
      <p:pic>
        <p:nvPicPr>
          <p:cNvPr id="88" name="billux" descr=""/>
          <p:cNvPicPr/>
          <p:nvPr/>
        </p:nvPicPr>
        <p:blipFill>
          <a:blip r:embed="rId6"/>
          <a:stretch/>
        </p:blipFill>
        <p:spPr>
          <a:xfrm>
            <a:off x="673200" y="533412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MOUSE1" descr=""/>
          <p:cNvPicPr/>
          <p:nvPr/>
        </p:nvPicPr>
        <p:blipFill>
          <a:blip r:embed="rId7"/>
          <a:stretch/>
        </p:blipFill>
        <p:spPr>
          <a:xfrm>
            <a:off x="6702480" y="5105520"/>
            <a:ext cx="12222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6668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ry a search in any engine on Linux. The results run into mill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952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541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une with the power-of-choice tradition of Linux, many companies now offer it along with lots of applications. Though the OS is the same, the bundled software do vary from one distribution to another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 H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ndra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any other firms sell Linux this way, and their CDs are called distributions. Usually the distributors charge a nominal fee for the media and for technical support in the future. Curr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 Hat and SuSE seem to be the most popul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istributions of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hat5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caldera" descr=""/>
          <p:cNvPicPr/>
          <p:nvPr/>
        </p:nvPicPr>
        <p:blipFill>
          <a:blip r:embed="rId5"/>
          <a:stretch/>
        </p:blipFill>
        <p:spPr>
          <a:xfrm>
            <a:off x="6172200" y="3276720"/>
            <a:ext cx="190512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6"/>
          <a:stretch/>
        </p:blipFill>
        <p:spPr>
          <a:xfrm>
            <a:off x="6172200" y="5638680"/>
            <a:ext cx="19051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redhat" descr=""/>
          <p:cNvPicPr/>
          <p:nvPr/>
        </p:nvPicPr>
        <p:blipFill>
          <a:blip r:embed="rId7"/>
          <a:stretch/>
        </p:blipFill>
        <p:spPr>
          <a:xfrm>
            <a:off x="6324480" y="2133720"/>
            <a:ext cx="77148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suse_logo" descr=""/>
          <p:cNvPicPr/>
          <p:nvPr/>
        </p:nvPicPr>
        <p:blipFill>
          <a:blip r:embed="rId8"/>
          <a:stretch/>
        </p:blipFill>
        <p:spPr>
          <a:xfrm>
            <a:off x="7010280" y="4419720"/>
            <a:ext cx="102888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522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SE is popular in Europe, and Red Hat rules in the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600200"/>
            <a:ext cx="7696080" cy="20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the fastest growing server operating system, with an annual growth rate of 166% in 2000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I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9% of IT professionals think Linux is essential or important for their corporate strategie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ME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0KR8P67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457360" cy="95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3352680"/>
            <a:ext cx="48006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April 2000 29% of embedded application developers decided to use Linux as their host OS in 2001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lectronic Market Foreca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top 100 financial companies in the US spent $50 million on Linux applications in 1998. This is expected to touch $200 million by 2003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vans Marke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itanic" descr=""/>
          <p:cNvPicPr/>
          <p:nvPr/>
        </p:nvPicPr>
        <p:blipFill>
          <a:blip r:embed="rId4"/>
          <a:stretch/>
        </p:blipFill>
        <p:spPr>
          <a:xfrm>
            <a:off x="5486400" y="4448160"/>
            <a:ext cx="24764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71600" y="10000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Today: Some Statistic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401880" y="4799160"/>
            <a:ext cx="33526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is poised to compete with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Linux is Built Up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5105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ha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ng hist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s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basic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UNIX is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ega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igh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ocument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t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vailable for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s was ver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amili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7242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U Proj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was (and is) a set of programs written for UNIX-like OSes and are freely available with source code, helped a lot. Once Linux was marginally functional, these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ped in testing the 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its subsequent usage by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0" y="838080"/>
            <a:ext cx="38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eature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kd14" descr=""/>
          <p:cNvPicPr/>
          <p:nvPr/>
        </p:nvPicPr>
        <p:blipFill>
          <a:blip r:embed="rId4"/>
          <a:stretch/>
        </p:blipFill>
        <p:spPr>
          <a:xfrm>
            <a:off x="5805360" y="2209680"/>
            <a:ext cx="219564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40384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Thompson and Ritchie, the creators of UNIX, working on a PDP-11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75438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mazon.com, HotMail, MSN, Yahoo! –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Supported in Linux: True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75248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emptively multitask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OS handles all scheduling of processes (and kernel threads)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application can hog the resourc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the system administrator specifically defines it as high-priority. This lead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moother performa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etter load-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35924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run in their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vate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means th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orly-written application cannot tamper with the memory of another application (or the kernel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f an application does try to access memory it doesn't own, it is immediately halted by the operating system, without disturbing any other process o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kde2_3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195588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3429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6699"/>
                </a:solidFill>
                <a:uFillTx/>
                <a:latin typeface="Arial"/>
              </a:rPr>
              <a:t>Multitasking under Linux</a:t>
            </a: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: The number of apps you can run is limited only by the memory you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6680"/>
            <a:ext cx="76201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special effects in </a:t>
            </a:r>
            <a:r>
              <a:rPr b="1" i="1" lang="en-US" sz="1800" spc="-1" strike="noStrike">
                <a:solidFill>
                  <a:srgbClr val="808080"/>
                </a:solidFill>
                <a:latin typeface="Comic Sans MS"/>
              </a:rPr>
              <a:t>Titanic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were made possible with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4:11:33Z</dcterms:created>
  <dc:creator>Deepak</dc:creator>
  <dc:description/>
  <dc:language>en-US</dc:language>
  <cp:lastModifiedBy>Deepak</cp:lastModifiedBy>
  <dcterms:modified xsi:type="dcterms:W3CDTF">2001-07-22T15:37:36Z</dcterms:modified>
  <cp:revision>118</cp:revision>
  <dc:subject/>
  <dc:title>No Slide Title</dc:title>
</cp:coreProperties>
</file>